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B062-4453-4311-B64D-0C9C9C28D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D68E-E787-4FE5-B2D0-46BFE35FF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F011-4F7A-4CA3-B1C0-124922963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020D-67AC-489F-8DE9-8F0A60F4D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6077-767E-48C8-AEEB-A1AC2377D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6860-E847-4C16-A669-FE66F17AF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6F87-693C-4B39-BF6E-C7966FD20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367F-6019-4BB1-84A6-2AEDF03BD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3A47-CC14-4D64-A9CB-A2A5E5291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E2B9-58F7-4E3B-85FA-F1CFB24CB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603F-2425-410C-AAB7-4B75DCB34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9AC6-C0F9-4290-B8C3-1F9F78AA8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C04A0-EA1E-4FE7-81B9-2583D983F6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356000" y="3645000"/>
            <a:ext cx="459000" cy="45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30T10:21:24Z</dcterms:created>
  <dc:creator>user</dc:creator>
  <dc:description/>
  <dc:language>en-US</dc:language>
  <cp:lastModifiedBy>user</cp:lastModifiedBy>
  <dcterms:modified xsi:type="dcterms:W3CDTF">2017-11-30T10:21:38Z</dcterms:modified>
  <cp:revision>1</cp:revision>
  <dc:subject/>
  <dc:title>Test</dc:title>
</cp:coreProperties>
</file>